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C78B8-F343-4D69-8A48-59B8FDD30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6AD-2177-4ACB-98E3-57BF8EF0A2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7FAC0-3D56-47F5-8E3E-57FF12334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4C12B-F1DF-4508-837C-A4959A414D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905E1-E65E-45A9-B377-3CCBCEC8C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8B9E0-E384-465C-8D4C-EADCD5A750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9757-A8C4-4A96-9459-541FEE32C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67554-DF73-43C3-B3F6-9183E61F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9A516-43BF-4EBB-802C-717C7D77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6E236-214A-4CBE-A0AB-9F58654CC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29399-DB51-4BBB-878F-B2128F33B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A1C51-FA09-4A86-AF6F-B47D73917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FB776-6C72-4E38-B50A-09921BD6D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1028C-EE86-42A9-B05E-E9D90AFAD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199AB-1136-47D3-8932-C4501AE4B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529D8-2A1B-46B3-87E6-9076F601F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5721C-3F94-45C0-85E1-306B297F7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7941-DCE6-409C-BF6D-5A57DF4D7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09AB0-A938-4403-8FD8-584650511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6EBDF-1AAE-45A1-BDBB-60D44AB8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D724-1967-41A6-A4EE-7FA86866DE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376B2-D6D7-45A7-951A-93A5945A9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31CFA-168D-4F4B-84CA-2359DC334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C38B3-5160-4AA2-8136-F05189AA5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E04201-F49F-43AF-92C7-A2FDD0A963B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5AC67-8DBD-4336-BA67-C9C0791588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3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원의 권리•의무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정치 활동의 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집단 행위의 제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영리업무 및 겸직금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받을 권리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육을 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익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헌법의 교육의 기회를 균등하게 받을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친권적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부모의 자녀에 대한 교육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위탁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가 교육할 권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사권으로서의 교육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고등전문직으로서의 자유재량권 행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권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협의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윌슨의 저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반행정 당국으로부터 교육당국의 독립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유로운 교육의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과정의 제정 및 운영에의 참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당한 지배로부터의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학의 학문적 자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주적인 단체결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란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부여 받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권위는 어떻게 지키는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언행일치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위로서의 교권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통제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이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기술적 권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급별에 따라서 교원의 권위는 달라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권위의 구성 요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권위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신수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통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합리적인 권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1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 자신의 내재적 권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덕적 사회적 성숙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2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외재적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적 이론적 측면에서의 수월성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3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의 요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권위에 대한 학생의 태도와 심리적 경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크라테스는 왜 죽었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너 자신을 알라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‘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악법도 법이다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우리의 권리와 의무는 무엇인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?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신분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정 직업인으로서 교사자격증을 가지고 정규 학교에서 학생들을 대상으로 교육활동을 하는 전문적인 직업인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초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공민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등기술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특수학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&amp;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업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송통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기술대학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각종학교 등의 공•사립의 모든 학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설강습소와 직업훈련원은 아님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종류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초등학교와 특수학교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와 직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원과 배치는 대통령령으로 정한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학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총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부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조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임강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명예교수 추대는 대통령령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.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행정직원과 조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유치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원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일정 교모 이하인 경우는 원감을 두지 않을 수 있다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)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초등학교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&amp;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특수학교의 교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종류의 교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1, 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급 정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준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상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서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건교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기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 자격 종류는 직위가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보직교사는 업무 분장상의 보직 명이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그러나 직위 또는 자격이 아니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적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적 교육활동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소극적 권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신분보장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침해 사항 방지 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성의 신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전문적 능력의 자율성 보장과 함께 사회적 책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치적 중립성 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생활보장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의 보수 수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p. 10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무조건 개선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급당 인원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수업 부담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잡무 과다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복지•후생제도의 확충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연금체계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녀학비 및 장학금 지급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무주택 교원 지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권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소극적 권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신분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쟁송제기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징계의 사유와 종류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p. 118 &amp;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-11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재심 위원회에 재심 요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3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연장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60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일 이내에 행정 소송 가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불체포특권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현행범이 아닐 경우에는 학교장의 동의 요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직단체 활동권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원의 의무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적극적 의무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 및 연구활동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복종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품위 유지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밀엄수의 의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29T02:25:13Z</dcterms:created>
  <dc:creator>XPuser</dc:creator>
  <dc:description/>
  <dc:language>en-US</dc:language>
  <cp:lastModifiedBy>staff</cp:lastModifiedBy>
  <dcterms:modified xsi:type="dcterms:W3CDTF">2008-10-10T05:14:04Z</dcterms:modified>
  <cp:revision>8</cp:revision>
  <dc:subject/>
  <dc:title>제 3장 교원의 권리•의무</dc:title>
</cp:coreProperties>
</file>